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1912-CA01-472A-AE90-237FCE6629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45ED-2240-4973-ABF0-9212C655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EB3A-6FCB-4D16-B481-9104C237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C545-C8DC-4F47-AEAD-49B14E9C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187D-0AE4-4513-84FE-4FF3E095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5C80-3C56-4198-9C27-52FA117C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7422-9778-49EB-A3E1-6B6393A9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95F6-B829-43AB-BE0A-83892E21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C443-19FF-4507-B298-723DE28C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67B6-49DF-4653-9C1C-4B5A0175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B4E0-51CB-49EF-B286-07E464B4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1A36-E98A-41E3-8251-EE7E238E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4DBC-127C-46CB-B7C6-23D33F61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013C-D90F-4D40-B7F5-A985111E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187B-DA11-46F2-AFD0-1F6BB3D2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CEED-A7B5-48FB-AA31-563598B9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DA9A-375A-4736-8D82-239BEE4E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7BA8-7716-47BE-AA49-21D9FE2E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510E-F63A-4D2B-8065-16506E28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A1DA-597B-4CB3-A902-D508723B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12C-D037-44EA-8DF2-78F6B44A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739-673E-4976-85A6-D51843EF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C961-98D9-4B4A-8759-70BE9134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789-4098-4779-9A75-EEEE98CC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33B-1EB4-4A6F-8088-632413CC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FEBB-2CE5-41C0-8DAB-B4695B7103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AA59-6577-491F-A55D-02952B12A5F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ecff"/>
                </a:solidFill>
                <a:latin typeface="Arial"/>
              </a:rPr>
              <a:t>The Drugs Revolution and the Development of Penicilli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evention and C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Pre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enicill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Alexander-fleming"/>
          <p:cNvPicPr/>
          <p:nvPr/>
        </p:nvPicPr>
        <p:blipFill>
          <a:blip r:embed="rId1"/>
          <a:stretch/>
        </p:blipFill>
        <p:spPr>
          <a:xfrm>
            <a:off x="5508720" y="1700280"/>
            <a:ext cx="3166920" cy="439272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hain and Flor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13" descr="penicil2"/>
          <p:cNvPicPr/>
          <p:nvPr/>
        </p:nvPicPr>
        <p:blipFill>
          <a:blip r:embed="rId1"/>
          <a:stretch/>
        </p:blipFill>
        <p:spPr>
          <a:xfrm>
            <a:off x="468360" y="2131920"/>
            <a:ext cx="4038480" cy="17319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1738440" y="2214720"/>
            <a:ext cx="566712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752480" y="1752480"/>
            <a:ext cx="6172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Times New Roman"/>
              </a:rPr>
              <a:t>Factors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11" descr="money"/>
          <p:cNvPicPr/>
          <p:nvPr/>
        </p:nvPicPr>
        <p:blipFill>
          <a:blip r:embed="rId1"/>
          <a:stretch/>
        </p:blipFill>
        <p:spPr>
          <a:xfrm>
            <a:off x="4788000" y="1773360"/>
            <a:ext cx="3024000" cy="381636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dividua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Fact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06:46Z</dcterms:created>
  <dc:creator>cpa1</dc:creator>
  <dc:description>The Drugs Revolution and the Development of Penicillin</dc:description>
  <cp:keywords>The Drugs Revolution and the Development of Penicillin</cp:keywords>
  <dc:language>en-US</dc:language>
  <cp:lastModifiedBy>LEGION</cp:lastModifiedBy>
  <dcterms:modified xsi:type="dcterms:W3CDTF">2017-07-03T11:27:24Z</dcterms:modified>
  <cp:revision>9</cp:revision>
  <dc:subject>The Drugs Revolution and the Development of Penicillin</dc:subject>
  <dc:title>The Drugs Revolution and the Development of Penicillin</dc:title>
</cp:coreProperties>
</file>